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move the slide</a:t>
            </a:r>
            <a:endParaRPr b="1" lang="en-US" sz="4400" spc="-1" strike="noStrike">
              <a:solidFill>
                <a:srgbClr val="ffffb7"/>
              </a:solidFill>
              <a:latin typeface="Arial Black"/>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5599B-E397-41DE-A4E1-8DB389D08CD3}"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haracteristics of the Greek Her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haracteristics of the Greek Her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vel to the Underwor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ero had to confront death and come back stronger and rejuvena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oes were mortal, so confronting death allowed them to face their own mort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vel to the Under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ero had to confront death and come back stronger and rejuvenat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oes were mortal, so confronting death allowed them to face their own mortal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ried a Prin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oes invariable married a princess, but instead of marital bliss, this frequently brought turmoil and unhappin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rried a Princ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oes invariable married a princess, but instead of marital bliss, this frequently brought turmoil and unhappi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gnoble Dea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ero had larger than life attributes, but he also had larger than life flaw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istotle would have called this hamartia, and it was usually brought on by hybr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y few heroes could come to grips with their gifts and their mortality, but that humanity is part of their app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appeal is what allowed their societies to forgive them and is also what kept the heroes alive for thousands of years after their death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gnoble Dea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ero had larger than life attributes, but he also had larger than life flaw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istotle would have called this hamartia, and it was usually brought on by hybr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ry few heroes could come to grips with their gifts and their mortality, but that humanity is part of their appe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at appeal is what allowed their societies to forgive them and is also what kept the heroes alive for thousands of years after their death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we think of the word hero, what comes to mi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ked men in spandex, tights, and ca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rtured loners with no one to lo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l cars, hot women, and high-tech gadg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erm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m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iderm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em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icem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m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we think of the word hero, what comes to mi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sked men in spandex, tights, and ca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rtured loners with no one to lo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ol cars, hot women, and high-tech gadge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perm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m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iderm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rem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icem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m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makes a hero in Greek Mytholo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ing one immortal pa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ing born into royal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ing an unusual conception or bi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ing favored by the go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ing the subject of a prophes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ing abandoned at birth or while very you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forming an amazing feat at a young 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ing on a qu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veling to the underwor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rying a prin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ying an ignoble dea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makes a hero in Greek Mytholo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ving one immortal par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ing born into royal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ving an unusual conception or bi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ing favored by the go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ing the subject of a prophes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ing abandoned at birth or while very you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forming an amazing feat at a young 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oing on a qu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veling to the under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rrying a princ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ying an ignoble dea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usual Conception / Bi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oes are often called “Demi-gods” because one parent is immortal and the other is mor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famous heroes were the offspring of Zeus or Poseidon, but sometimes the parent was a goddess such as Aphrodite or Thet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further complicate things, often the heroes’ actual births involved strange complic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usual Conception / Bi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oes are often called “Demi-gods” because one parent is immortal and the other is mort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famous heroes were the offspring of Zeus or Poseidon, but sometimes the parent was a goddess such as Aphrodite or Thet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further complicate things, often the heroes’ actual births involved strange complic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rn into Royal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oes were almost always the offspring of a princess or que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ically the god responsible for the hero either came disguised as the husband of the queen, or the princess slept with a god and a mortal on the same n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ariably the hero was claimed by his earthly father as well as his Olympian 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rn into Royal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oes were almost always the offspring of a princess or quee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ically the god responsible for the hero either came disguised as the husband of the queen, or the princess slept with a god and a mortal on the same nigh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variably the hero was claimed by his earthly father as well as his Olympian o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phesy / Abandoned </a:t>
            </a:r>
            <a:br>
              <a:rPr sz="1200"/>
            </a:br>
            <a:r>
              <a:rPr b="0" lang="en-US" sz="1200" spc="-1" strike="noStrike">
                <a:solidFill>
                  <a:srgbClr val="000000"/>
                </a:solidFill>
                <a:latin typeface="Calibri"/>
              </a:rPr>
              <a:t>at Bi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ates or the oracle often had something to say about the birth of a her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ten the prediction so frightened the parents that they abandoned the child in the wilderness, but since the heroic child was favored by the gods, he was saved and raised by someone other than his par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through no fault of the parents, the child needed to be raised away from ho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hesy / Abandoned </a:t>
            </a:r>
            <a:br>
              <a:rPr sz="1200"/>
            </a:br>
            <a:r>
              <a:rPr b="0" lang="en-US" sz="1200" spc="-1" strike="noStrike">
                <a:solidFill>
                  <a:srgbClr val="ffffff"/>
                </a:solidFill>
                <a:latin typeface="Arial"/>
              </a:rPr>
              <a:t>at Bi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ates or the oracle often had something to say about the birth of a her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ten the prediction so frightened the parents that they abandoned the child in the wilderness, but since the heroic child was favored by the gods, he was saved and raised by someone other than his par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times, through no fault of the parents, the child needed to be raised away from hom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forming an amazing feat at a young 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ng heroes invariable found a way to “strut their stuff” when they were wee tyk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acles killed two snakes as a youngster, Theseus moved a huge rock and fought what he thought was a l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events were a hea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 that great things were in store for our hero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forming an amazing feat at a young 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ng heroes invariable found a way to “strut their stuff” when they were wee tyk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acles killed two snakes as a youngster, Theseus moved a huge rock and fought what he thought was a 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events were a head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p that great things were in store for our hero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heroes were the offspring of gods,   usually they were favored by the go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hild of Zeus would get help on a quest by Zeus or another Olympi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 gifts such as helmets, winged sandals, and golden bridles were loaned to the hero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vored by the Go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ce heroes were the offspring of gods,   usually they were favored by the god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hild of Zeus would get help on a quest by Zeus or another Olympi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ecial gifts such as helmets, winged sandals, and golden bridles were loaned to the hero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vored by the Go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sts, Kleos and Ariste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oes made the world a safer place by defeating a monster, killing an evil king, or righting a wr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oes wanted their names to live forever since they could no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ngs must be sung that would perpetuate the stories of their great dee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ests, Kleos and Ariste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oes made the world a safer place by defeating a monster, killing an evil king, or righting a wro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oes wanted their names to live forever since they could no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ngs must be sung that would perpetuate the stories of their great dee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20EB75-DEF7-4CD6-A578-D239A838E7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2CCF05-13CD-4596-BDFC-12755AA4E3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D3C521-CC8A-4141-8CE7-ED2F077A95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69EDC9-D240-4DE0-9A51-359D81AC42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83E5E5-BEF3-47C9-9703-7F2AB82164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A5657A-E70E-4120-8938-4180316006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5040D6-ADE4-4DFF-B08F-C81CEA71AE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9490F7-08DC-4DE0-AF73-2F1157DE89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A82DDF-15FB-4DFE-8242-0CD6A74351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5743B8-E20A-4BA3-94F9-0185DE6219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6CDE23-ABCA-4F58-A32E-49F339EAAA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42299D-4305-4444-8990-AE7F133E7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B30CCC-3B4A-4073-9957-2F3821B515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DFB969-022A-48E8-A525-831F2051A4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7C551A-921D-48B2-A55F-FF15E81F6E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09EBF5-DF19-442B-93C4-781380B637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358C53-0412-41CF-931D-5C8211FE68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6415A5-0A91-4900-AACA-93F48E2C7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44A67A-E51D-4325-99D4-97F91E9384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C1030B-3869-45EB-ADEA-CF7CDB535B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4698F6-6A59-4042-BF42-C7E87D759A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F1014-A6E7-4E9A-92B7-6818C5A3D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AE53B-E655-4F81-8C78-10AE38CAB1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925CE-A24D-4C7C-BC85-F08C52C3F1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9BBC8-B15A-42E8-86D4-2FF16664A5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A4DCA-180D-49E6-900B-257C1D374ED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perseus.tufts.edu/Herakles/Hicons/fronth.gif"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90720" y="380880"/>
            <a:ext cx="7772400" cy="1905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The Characteristics of the Greek Hero</a:t>
            </a:r>
            <a:endParaRPr b="1" lang="en-US" sz="5400" spc="-1" strike="noStrike">
              <a:solidFill>
                <a:srgbClr val="ffffb7"/>
              </a:solidFill>
              <a:latin typeface="Arial Black"/>
            </a:endParaRPr>
          </a:p>
        </p:txBody>
      </p:sp>
      <p:sp>
        <p:nvSpPr>
          <p:cNvPr id="106" name="PlaceHolder 2"/>
          <p:cNvSpPr>
            <a:spLocks noGrp="1"/>
          </p:cNvSpPr>
          <p:nvPr>
            <p:ph type="subTitle"/>
          </p:nvPr>
        </p:nvSpPr>
        <p:spPr>
          <a:xfrm>
            <a:off x="990720" y="3962520"/>
            <a:ext cx="678168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ffffff"/>
              </a:solidFill>
              <a:latin typeface="Arial"/>
            </a:endParaRPr>
          </a:p>
        </p:txBody>
      </p:sp>
      <p:pic>
        <p:nvPicPr>
          <p:cNvPr id="107" name="Picture 5" descr="f42ece0um1"/>
          <p:cNvPicPr/>
          <p:nvPr/>
        </p:nvPicPr>
        <p:blipFill>
          <a:blip r:embed="rId1"/>
          <a:stretch/>
        </p:blipFill>
        <p:spPr>
          <a:xfrm>
            <a:off x="152280" y="2590920"/>
            <a:ext cx="8839440" cy="4267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ravel to the Underworld</a:t>
            </a:r>
            <a:endParaRPr b="1" lang="en-US" sz="4400" spc="-1" strike="noStrike">
              <a:solidFill>
                <a:srgbClr val="ffffb7"/>
              </a:solidFill>
              <a:latin typeface="Arial Black"/>
            </a:endParaRPr>
          </a:p>
        </p:txBody>
      </p:sp>
      <p:sp>
        <p:nvSpPr>
          <p:cNvPr id="13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ero had to confront death and come back stronger and rejuvenated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roes were mortal, so confronting death allowed them to face their own mortalit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3" name="Picture 5" descr="35660~Orpheus-with-a-Harp-Playing-to-Pluto-and-Persephone-in-the-Underworld-Posters"/>
          <p:cNvPicPr/>
          <p:nvPr/>
        </p:nvPicPr>
        <p:blipFill>
          <a:blip r:embed="rId1"/>
          <a:stretch/>
        </p:blipFill>
        <p:spPr>
          <a:xfrm>
            <a:off x="1981080" y="4191120"/>
            <a:ext cx="5029200" cy="2495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04560"/>
            <a:ext cx="83851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Married a Princess</a:t>
            </a:r>
            <a:endParaRPr b="1" lang="en-US" sz="4400" spc="-1" strike="noStrike">
              <a:solidFill>
                <a:srgbClr val="ffffb7"/>
              </a:solidFill>
              <a:latin typeface="Arial Black"/>
            </a:endParaRPr>
          </a:p>
        </p:txBody>
      </p:sp>
      <p:sp>
        <p:nvSpPr>
          <p:cNvPr id="135" name="PlaceHolder 2"/>
          <p:cNvSpPr>
            <a:spLocks noGrp="1"/>
          </p:cNvSpPr>
          <p:nvPr>
            <p:ph/>
          </p:nvPr>
        </p:nvSpPr>
        <p:spPr>
          <a:xfrm>
            <a:off x="838080" y="2286000"/>
            <a:ext cx="4114800" cy="457200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roes invariable married a princess, but instead of marital bliss, this frequently brought turmoil and unhappiness</a:t>
            </a:r>
            <a:endParaRPr b="0" lang="en-US" sz="3200" spc="-1" strike="noStrike">
              <a:solidFill>
                <a:srgbClr val="ffffff"/>
              </a:solidFill>
              <a:latin typeface="Arial"/>
            </a:endParaRPr>
          </a:p>
        </p:txBody>
      </p:sp>
      <p:pic>
        <p:nvPicPr>
          <p:cNvPr id="136" name="Picture 5" descr="Princess_Belle-Etoile_-_illustration_by_Walter_Crane_-_Project_Gutenberg_eText_18344"/>
          <p:cNvPicPr/>
          <p:nvPr/>
        </p:nvPicPr>
        <p:blipFill>
          <a:blip r:embed="rId1"/>
          <a:stretch/>
        </p:blipFill>
        <p:spPr>
          <a:xfrm>
            <a:off x="5029200" y="1905120"/>
            <a:ext cx="4114800" cy="495288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mph" presetID="6">
                                  <p:stCondLst>
                                    <p:cond delay="0"/>
                                  </p:stCondLst>
                                  <p:childTnLst>
                                    <p:animScale>
                                      <p:cBhvr>
                                        <p:cTn id="18" dur="2000" fill="hold"/>
                                        <p:tgtEl>
                                          <p:spTgt spid="13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Ignoble Death</a:t>
            </a:r>
            <a:endParaRPr b="1" lang="en-US" sz="4400" spc="-1" strike="noStrike">
              <a:solidFill>
                <a:srgbClr val="ffffb7"/>
              </a:solidFill>
              <a:latin typeface="Arial Black"/>
            </a:endParaRPr>
          </a:p>
        </p:txBody>
      </p:sp>
      <p:sp>
        <p:nvSpPr>
          <p:cNvPr id="13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ero had larger than life attributes, but he also had larger than life flaws</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istotle would have called this hamartia, and it was usually brought on by hybris</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y few heroes could come to grips with their gifts and their mortality, but that humanity is part of their appeal</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at appeal is what allowed their societies to forgive them and is also what kept the heroes alive for thousands of years after their death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When we think of the word hero, what comes to mind?</a:t>
            </a:r>
            <a:endParaRPr b="1" lang="en-US" sz="4000" spc="-1" strike="noStrike">
              <a:solidFill>
                <a:srgbClr val="ffffb7"/>
              </a:solidFill>
              <a:latin typeface="Arial Black"/>
            </a:endParaRPr>
          </a:p>
        </p:txBody>
      </p:sp>
      <p:sp>
        <p:nvSpPr>
          <p:cNvPr id="10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sked men in spandex, tights, and capes?</a:t>
            </a:r>
            <a:endParaRPr b="0"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rtured loners with no one to love?</a:t>
            </a:r>
            <a:endParaRPr b="0"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ol cars, hot women, and high-tech gadgets?</a:t>
            </a:r>
            <a:endParaRPr b="0"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erman?</a:t>
            </a:r>
            <a:endParaRPr b="0"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man?</a:t>
            </a:r>
            <a:endParaRPr b="0"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iderman?</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eman?</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liceman?</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ryman?</a:t>
            </a:r>
            <a:endParaRPr b="0" lang="en-US" sz="2800" spc="-1" strike="noStrike">
              <a:solidFill>
                <a:srgbClr val="ffffff"/>
              </a:solidFill>
              <a:latin typeface="Arial"/>
            </a:endParaRPr>
          </a:p>
        </p:txBody>
      </p:sp>
      <p:pic>
        <p:nvPicPr>
          <p:cNvPr id="110" name="Picture 5" descr="392pxsupermanbatmansecretfilescvfh8"/>
          <p:cNvPicPr/>
          <p:nvPr/>
        </p:nvPicPr>
        <p:blipFill>
          <a:blip r:embed="rId1"/>
          <a:stretch/>
        </p:blipFill>
        <p:spPr>
          <a:xfrm>
            <a:off x="4800600" y="3352680"/>
            <a:ext cx="3200400" cy="3276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0"/>
                                        </p:tgtEl>
                                        <p:attrNameLst>
                                          <p:attrName>style.visibility</p:attrName>
                                        </p:attrNameLst>
                                      </p:cBhvr>
                                      <p:to>
                                        <p:strVal val="visible"/>
                                      </p:to>
                                    </p:set>
                                    <p:anim calcmode="lin" valueType="num">
                                      <p:cBhvr additive="base">
                                        <p:cTn id="7" dur="500" fill="hold"/>
                                        <p:tgtEl>
                                          <p:spTgt spid="110"/>
                                        </p:tgtEl>
                                        <p:attrNameLst>
                                          <p:attrName>ppt_x</p:attrName>
                                        </p:attrNameLst>
                                      </p:cBhvr>
                                      <p:tavLst>
                                        <p:tav tm="0">
                                          <p:val>
                                            <p:strVal val="#ppt_x"/>
                                          </p:val>
                                        </p:tav>
                                        <p:tav tm="100000">
                                          <p:val>
                                            <p:strVal val="#ppt_x"/>
                                          </p:val>
                                        </p:tav>
                                      </p:tavLst>
                                    </p:anim>
                                    <p:anim calcmode="lin" valueType="num">
                                      <p:cBhvr additive="base">
                                        <p:cTn id="8"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mph" presetID="8">
                                  <p:stCondLst>
                                    <p:cond delay="0"/>
                                  </p:stCondLst>
                                  <p:childTnLst>
                                    <p:animRot by="21600000">
                                      <p:cBhvr>
                                        <p:cTn id="12" dur="2000" fill="hold"/>
                                        <p:tgtEl>
                                          <p:spTgt spid="11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What makes a hero in Greek Mythology?</a:t>
            </a:r>
            <a:endParaRPr b="1" lang="en-US" sz="4400" spc="-1" strike="noStrike">
              <a:solidFill>
                <a:srgbClr val="ffffb7"/>
              </a:solidFill>
              <a:latin typeface="Arial Black"/>
            </a:endParaRPr>
          </a:p>
        </p:txBody>
      </p:sp>
      <p:sp>
        <p:nvSpPr>
          <p:cNvPr id="11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ing one immortal parent</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ing born into royalty</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ing an unusual conception or birth</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ing favored by the gods</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ing the subject of a prophesy</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ing abandoned at birth or while very young</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ing an amazing feat at a young age</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ing on a quest</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veling to the underworld</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rying a princess</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ying an ignoble de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Unusual Conception / Birth</a:t>
            </a:r>
            <a:endParaRPr b="1" lang="en-US" sz="4400" spc="-1" strike="noStrike">
              <a:solidFill>
                <a:srgbClr val="ffffb7"/>
              </a:solidFill>
              <a:latin typeface="Arial Black"/>
            </a:endParaRPr>
          </a:p>
        </p:txBody>
      </p:sp>
      <p:sp>
        <p:nvSpPr>
          <p:cNvPr id="11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oes are often called “Demi-gods” because one parent is immortal and the other is mortal</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famous heroes were the offspring of Zeus or Poseidon, but sometimes the parent was a goddess such as Aphrodite or Thetis</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further complicate things, often the heroes’ actual births involved strange complications</a:t>
            </a:r>
            <a:endParaRPr b="0" lang="en-US" sz="2800" spc="-1" strike="noStrike">
              <a:solidFill>
                <a:srgbClr val="ffffff"/>
              </a:solidFill>
              <a:latin typeface="Arial"/>
            </a:endParaRPr>
          </a:p>
        </p:txBody>
      </p:sp>
      <p:pic>
        <p:nvPicPr>
          <p:cNvPr id="115" name="Picture 5" descr="fronth">
            <a:hlinkClick r:id="rId1"/>
          </p:cNvPr>
          <p:cNvPicPr/>
          <p:nvPr/>
        </p:nvPicPr>
        <p:blipFill>
          <a:blip r:embed="rId2"/>
          <a:stretch/>
        </p:blipFill>
        <p:spPr>
          <a:xfrm>
            <a:off x="3733920" y="5181480"/>
            <a:ext cx="1752480" cy="1524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Born into Royalty</a:t>
            </a:r>
            <a:endParaRPr b="1" lang="en-US" sz="4400" spc="-1" strike="noStrike">
              <a:solidFill>
                <a:srgbClr val="ffffb7"/>
              </a:solidFill>
              <a:latin typeface="Arial Black"/>
            </a:endParaRPr>
          </a:p>
        </p:txBody>
      </p:sp>
      <p:sp>
        <p:nvSpPr>
          <p:cNvPr id="11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oes were almost always the offspring of a princess or queen </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ically the god responsible for the hero either came disguised as the husband of the queen, or the princess slept with a god and a mortal on the same night</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variably the hero was claimed by his earthly father as well as his Olympian on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18" name="Picture 5" descr="koenigskrone370"/>
          <p:cNvPicPr/>
          <p:nvPr/>
        </p:nvPicPr>
        <p:blipFill>
          <a:blip r:embed="rId1"/>
          <a:stretch/>
        </p:blipFill>
        <p:spPr>
          <a:xfrm>
            <a:off x="6400800" y="0"/>
            <a:ext cx="2533680" cy="18288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0" y="244440"/>
            <a:ext cx="632448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rPr>
              <a:t>Prophesy / Abandoned </a:t>
            </a:r>
            <a:br>
              <a:rPr sz="3600"/>
            </a:br>
            <a:r>
              <a:rPr b="1" lang="en-US" sz="3600" spc="-1" strike="noStrike">
                <a:solidFill>
                  <a:srgbClr val="ffffb7"/>
                </a:solidFill>
                <a:latin typeface="Arial Black"/>
              </a:rPr>
              <a:t>at Birth</a:t>
            </a:r>
            <a:endParaRPr b="1" lang="en-US" sz="3600" spc="-1" strike="noStrike">
              <a:solidFill>
                <a:srgbClr val="ffffb7"/>
              </a:solidFill>
              <a:latin typeface="Arial Black"/>
            </a:endParaRPr>
          </a:p>
        </p:txBody>
      </p:sp>
      <p:sp>
        <p:nvSpPr>
          <p:cNvPr id="12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ates or the oracle often had something to say about the birth of a hero</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ten the prediction so frightened the parents that they abandoned the child in the wilderness, but since the heroic child was favored by the gods, he was saved and raised by someone other than his parents</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times, through no fault of the parents, the child needed to be raised away from home </a:t>
            </a:r>
            <a:endParaRPr b="0" lang="en-US" sz="2800" spc="-1" strike="noStrike">
              <a:solidFill>
                <a:srgbClr val="ffffff"/>
              </a:solidFill>
              <a:latin typeface="Arial"/>
            </a:endParaRPr>
          </a:p>
        </p:txBody>
      </p:sp>
      <p:pic>
        <p:nvPicPr>
          <p:cNvPr id="121" name="Picture 5" descr="delphi_site"/>
          <p:cNvPicPr/>
          <p:nvPr/>
        </p:nvPicPr>
        <p:blipFill>
          <a:blip r:embed="rId1"/>
          <a:stretch/>
        </p:blipFill>
        <p:spPr>
          <a:xfrm>
            <a:off x="6019920" y="0"/>
            <a:ext cx="3124080" cy="190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080"/>
            <a:ext cx="8385120" cy="1050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Performing an amazing feat at a young age</a:t>
            </a:r>
            <a:endParaRPr b="1" lang="en-US" sz="4000" spc="-1" strike="noStrike">
              <a:solidFill>
                <a:srgbClr val="ffffb7"/>
              </a:solidFill>
              <a:latin typeface="Arial Black"/>
            </a:endParaRPr>
          </a:p>
        </p:txBody>
      </p:sp>
      <p:sp>
        <p:nvSpPr>
          <p:cNvPr id="123" name="PlaceHolder 2"/>
          <p:cNvSpPr>
            <a:spLocks noGrp="1"/>
          </p:cNvSpPr>
          <p:nvPr>
            <p:ph/>
          </p:nvPr>
        </p:nvSpPr>
        <p:spPr>
          <a:xfrm>
            <a:off x="228240" y="1828440"/>
            <a:ext cx="5181480" cy="4876920"/>
          </a:xfrm>
          <a:prstGeom prst="rect">
            <a:avLst/>
          </a:prstGeom>
          <a:noFill/>
          <a:ln w="0">
            <a:noFill/>
          </a:ln>
        </p:spPr>
        <p:txBody>
          <a:bodyPr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ng heroes invariable found a way to “strut their stuff” when they were wee tykes.</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acles killed two snakes as a youngster, Theseus moved a huge rock and fought what he thought was a lion</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events were a heads </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 that great things were in store for our heroes</a:t>
            </a:r>
            <a:endParaRPr b="0" lang="en-US" sz="2800" spc="-1" strike="noStrike">
              <a:solidFill>
                <a:srgbClr val="ffffff"/>
              </a:solidFill>
              <a:latin typeface="Arial"/>
            </a:endParaRPr>
          </a:p>
        </p:txBody>
      </p:sp>
      <p:pic>
        <p:nvPicPr>
          <p:cNvPr id="124" name="Picture 5" descr="herc01r"/>
          <p:cNvPicPr/>
          <p:nvPr/>
        </p:nvPicPr>
        <p:blipFill>
          <a:blip r:embed="rId1"/>
          <a:stretch/>
        </p:blipFill>
        <p:spPr>
          <a:xfrm>
            <a:off x="5715000" y="1828800"/>
            <a:ext cx="3429000" cy="5029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5" descr="10_Shipton"/>
          <p:cNvPicPr/>
          <p:nvPr/>
        </p:nvPicPr>
        <p:blipFill>
          <a:blip r:embed="rId1"/>
          <a:stretch/>
        </p:blipFill>
        <p:spPr>
          <a:xfrm>
            <a:off x="914400" y="1752480"/>
            <a:ext cx="7772400" cy="4819680"/>
          </a:xfrm>
          <a:prstGeom prst="rect">
            <a:avLst/>
          </a:prstGeom>
          <a:ln w="0">
            <a:noFill/>
          </a:ln>
        </p:spPr>
      </p:pic>
      <p:sp>
        <p:nvSpPr>
          <p:cNvPr id="126" name="PlaceHolder 1"/>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heroes were the offspring of gods,   usually they were favored by the gods.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hild of Zeus would get help on a quest by Zeus or another Olympia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al gifts such as helmets, winged sandals, and golden bridles were loaned to the heroes</a:t>
            </a:r>
            <a:endParaRPr b="0" lang="en-US" sz="3200" spc="-1" strike="noStrike">
              <a:solidFill>
                <a:srgbClr val="ffffff"/>
              </a:solidFill>
              <a:latin typeface="Arial"/>
            </a:endParaRPr>
          </a:p>
        </p:txBody>
      </p:sp>
      <p:sp>
        <p:nvSpPr>
          <p:cNvPr id="127" name="PlaceHolder 2"/>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Favored by the Gods</a:t>
            </a: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5" descr="chimera"/>
          <p:cNvPicPr/>
          <p:nvPr/>
        </p:nvPicPr>
        <p:blipFill>
          <a:blip r:embed="rId1"/>
          <a:stretch/>
        </p:blipFill>
        <p:spPr>
          <a:xfrm>
            <a:off x="4191120" y="3544920"/>
            <a:ext cx="4952880" cy="3313080"/>
          </a:xfrm>
          <a:prstGeom prst="rect">
            <a:avLst/>
          </a:prstGeom>
          <a:ln w="0">
            <a:noFill/>
          </a:ln>
        </p:spPr>
      </p:pic>
      <p:sp>
        <p:nvSpPr>
          <p:cNvPr id="129" name="PlaceHolder 1"/>
          <p:cNvSpPr>
            <a:spLocks noGrp="1"/>
          </p:cNvSpPr>
          <p:nvPr>
            <p:ph type="title"/>
          </p:nvPr>
        </p:nvSpPr>
        <p:spPr>
          <a:xfrm>
            <a:off x="0" y="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Quests, Kleos and Aristea </a:t>
            </a:r>
            <a:endParaRPr b="1" lang="en-US" sz="4400" spc="-1" strike="noStrike">
              <a:solidFill>
                <a:srgbClr val="ffffb7"/>
              </a:solidFill>
              <a:latin typeface="Arial Black"/>
            </a:endParaRPr>
          </a:p>
        </p:txBody>
      </p:sp>
      <p:sp>
        <p:nvSpPr>
          <p:cNvPr id="130" name="PlaceHolder 2"/>
          <p:cNvSpPr>
            <a:spLocks noGrp="1"/>
          </p:cNvSpPr>
          <p:nvPr>
            <p:ph/>
          </p:nvPr>
        </p:nvSpPr>
        <p:spPr>
          <a:xfrm>
            <a:off x="-360" y="1218960"/>
            <a:ext cx="8007480" cy="4190760"/>
          </a:xfrm>
          <a:prstGeom prst="rect">
            <a:avLst/>
          </a:prstGeom>
          <a:noFill/>
          <a:ln w="0">
            <a:noFill/>
          </a:ln>
        </p:spPr>
        <p:txBody>
          <a:bodyPr anchor="t">
            <a:normAutofit fontScale="99000"/>
          </a:bodyPr>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Heroes made the world a safer place by defeating a monster, killing an evil king, or righting a wrong</a:t>
            </a:r>
            <a:endParaRPr b="0" lang="en-US" sz="3200" spc="-1" strike="noStrike">
              <a:solidFill>
                <a:srgbClr val="ffffff"/>
              </a:solidFill>
              <a:latin typeface="Arial"/>
            </a:endParaRPr>
          </a:p>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Heroes wanted their names to live forever since they could not.</a:t>
            </a:r>
            <a:endParaRPr b="0" lang="en-US" sz="3200" spc="-1" strike="noStrike">
              <a:solidFill>
                <a:srgbClr val="ffffff"/>
              </a:solidFill>
              <a:latin typeface="Arial"/>
            </a:endParaRPr>
          </a:p>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Songs must be sung that would perpetuate</a:t>
            </a:r>
            <a:r>
              <a:rPr b="0" lang="en-US" sz="3200" spc="-1" strike="noStrike">
                <a:solidFill>
                  <a:srgbClr val="006600"/>
                </a:solidFill>
                <a:latin typeface="Arial"/>
              </a:rPr>
              <a:t> </a:t>
            </a:r>
            <a:r>
              <a:rPr b="0" lang="en-US" sz="3200" spc="-1" strike="noStrike">
                <a:solidFill>
                  <a:srgbClr val="ffff66"/>
                </a:solidFill>
                <a:latin typeface="Arial"/>
              </a:rPr>
              <a:t>the stories of their great deeds</a:t>
            </a:r>
            <a:endParaRPr b="0" lang="en-US" sz="3200" spc="-1" strike="noStrike">
              <a:solidFill>
                <a:srgbClr val="ffffff"/>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4T23:28:07Z</dcterms:created>
  <dc:creator> </dc:creator>
  <dc:description/>
  <dc:language>en-US</dc:language>
  <cp:lastModifiedBy>RomaK</cp:lastModifiedBy>
  <dcterms:modified xsi:type="dcterms:W3CDTF">2015-09-02T09:27:41Z</dcterms:modified>
  <cp:revision>18</cp:revision>
  <dc:subject/>
  <dc:title>The Characteristics of the Greek Hero</dc:title>
</cp:coreProperties>
</file>